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2B1-A44A-44C9-920D-715FC58D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C1F-F89C-402F-B61B-0CC7E8BF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110-FF3C-4B04-B496-9D59BE3B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E4E-CE22-4DA2-AB14-9D3F63F4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BB0-1E32-4B3E-9095-D4BAB1EC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B89-7544-4524-B49C-6E821E55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74A-136C-4150-9364-031D591B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AB7-4486-4D98-9362-0E237113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D18-1E58-45B0-B862-69FC6E77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CAA-68A5-496C-A893-6F44FB73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CCD-A2B1-434B-98D2-4668E59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CC1-81BE-47DD-8FB2-5EA37728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293F-5013-4320-B8A9-073F3702F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bensguide.gpo.gov/3-5/state/index.html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28600"/>
            <a:ext cx="71629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virgi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638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rian gr7 c20 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4343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4920" y="18284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: Rich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: 7,078,5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entered union : 5/25/17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motto : sic semper tyra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ickname : old dom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flower : American dog 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b2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Virginia: Map and State Flag"/>
          <p:cNvPicPr/>
          <p:nvPr/>
        </p:nvPicPr>
        <p:blipFill>
          <a:blip r:embed="rId1"/>
          <a:srcRect l="-5275" t="37212" r="0" b="-11618"/>
          <a:stretch/>
        </p:blipFill>
        <p:spPr>
          <a:xfrm>
            <a:off x="0" y="0"/>
            <a:ext cx="151452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Virginia: Map and State Flag"/>
          <p:cNvPicPr/>
          <p:nvPr/>
        </p:nvPicPr>
        <p:blipFill>
          <a:blip r:embed="rId2">
            <a:lum contrast="6000"/>
          </a:blip>
          <a:srcRect l="0" t="-9295" r="9931" b="58141"/>
          <a:stretch/>
        </p:blipFill>
        <p:spPr>
          <a:xfrm>
            <a:off x="7848720" y="0"/>
            <a:ext cx="129528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Pontoons at Fredericksburg 1863"/>
          <p:cNvPicPr/>
          <p:nvPr/>
        </p:nvPicPr>
        <p:blipFill>
          <a:blip r:embed="rId3">
            <a:lum bright="22000"/>
          </a:blip>
          <a:stretch/>
        </p:blipFill>
        <p:spPr>
          <a:xfrm>
            <a:off x="3048120" y="5029200"/>
            <a:ext cx="2514600" cy="1593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85400" y="228240"/>
            <a:ext cx="47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s guide to us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irgini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ensguide.gpo.gov/3-5/state/index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5720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civil war 3/10/11http://www.usa-civilwar.com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dericksbu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fdksbg_2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All images Copyright © 1997 - 2000 WriteLine. All Rights Reserved.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133720" y="1143000"/>
            <a:ext cx="4190760" cy="279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10280" y="1066680"/>
            <a:ext cx="190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bert E. Lee Memorial Arlington National Cemetery, VA  3/8/11 http://www.postcardsfrom.com/t1/0002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6:28:26Z</dcterms:created>
  <dc:creator>install</dc:creator>
  <dc:description/>
  <dc:language>en-US</dc:language>
  <cp:lastModifiedBy>install</cp:lastModifiedBy>
  <dcterms:modified xsi:type="dcterms:W3CDTF">2011-03-16T15:56:16Z</dcterms:modified>
  <cp:revision>11</cp:revision>
  <dc:subject/>
  <dc:title>Slide 1</dc:title>
</cp:coreProperties>
</file>